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BBA-AEE7-4B65-865A-3817F237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1A5-32DD-49AD-BD98-10FE7143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04B28-5147-4F1F-AB7A-F5A1CE5B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16EAB-31EC-4144-8873-95B96EFB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7DB99-2969-484B-A467-6F74ECC1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2A3F2-728F-4527-BB3C-E5B3B61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A7F50-94B7-4693-8FD1-F48B0F3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DE4E0-19CD-4AD3-8486-B9F6224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E65B7-EB63-4E30-8CCB-74C3496F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772E2-C549-4841-A268-43FCD674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1A957-123E-4D6A-BEE4-0BFD7BDC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B959B-2D75-43B3-910E-0691C463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8F9-05FC-4FB1-9C39-6AD146E6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FE969-72C1-426A-B890-5003AD0D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76736-D477-4849-AB66-63D3608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5C5BC-2828-42A1-8490-E86346B3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B0BC-5FD0-4C32-B027-124E46E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FC008-080E-409C-BCBD-2B4FF310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242D8-3093-47EB-97E4-CD936DC9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C1F46-AB11-4DBC-897D-25EEF27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B58FD-9DED-4E5E-A86F-6FD4DDD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07214-B557-4CBC-9A1A-0AD6120C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53DB2-2CD2-4256-9056-E99FB02B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49B-7FDB-4103-82F7-9CD438BF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0516B-EA75-4971-8CE0-8A9D08A8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F7198-90A4-48FD-9121-593BFF3A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3B0DF-E0A3-4DF6-83AE-1C63EA72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8DD8D-3ECB-4A24-B918-6F02C521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678CA-47A5-4B9B-A468-D53507DD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8BD65-9399-42AF-952A-8984905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36226-8768-4106-B144-B9B2A2A8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98E02-6DAD-461C-B499-B7E7C44D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3120D-12F2-4842-9A86-E7BF6D4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2058A-1243-4D47-AA6F-931C1B6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0680-B481-4BD0-8136-CD6806FF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802C8-9C52-4A86-8071-8614E9FE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FE7EE-384D-4004-BCB7-03D4AA3F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60945-BCA7-48E7-B136-DA2599D1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24970-5A2E-4682-AEF9-B3C9FA8B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9AEFE-04EB-46E2-AFCE-66B2BAE6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55BFD-FD1F-42F2-809B-965FA5A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87730-AC85-4E08-A9B3-52FBCF8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2ADD8-325A-4B4B-A894-6EA2727D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86A26-5EE7-4946-9A92-30FD21AC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FF0EE-72C5-43B5-8F8E-EC9D1F95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3F39-93C8-4C0B-ADD8-16384737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80B36-1B81-4D72-B468-8578F9FD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5F1A6-AE94-4906-B473-CD715B1F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0650E-6E37-44C5-BB87-6FE08232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65A75-5CB4-47BF-AA92-A06927E5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78BA9-AF65-4FC2-A3B1-53CFBB1B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8755-19F7-4172-8AC3-AFD050F8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ADBA-956F-46DE-8961-5A9E62A9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5026-1EA6-47A6-ADB6-887412A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458F-D16A-4F41-B411-EC2EB4CC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9F64-33AA-445F-BCC2-2E2E243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786-5D74-48A7-8B63-D14744C8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4CCB-869A-4872-8CE2-11EE625D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0958-DC19-411D-BCD7-A03CF78B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2F1D-668E-4BDF-A0E8-7E750AA3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9296-8C1C-409E-A44A-2BB9D43A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DB2C-D850-49A8-8BF8-D767C2E3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175DF-8C1B-402E-A149-F7CB2BBF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1B5F-B514-447D-A22B-E9391481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2AA7-2E5E-45AF-A464-FBDAE5C3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A116-A65C-4E4F-BCAE-DFB72E27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FBD7-0E89-4E69-9DFC-5679D24E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191-026F-4A86-8A56-68F40CA0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E706-9279-48BF-939A-983492B7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EF0E-9009-4116-81AB-CFE50AA3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B7CD-D057-415C-98CD-39C57ED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9F49-D6FF-409C-A1C1-849AA2AE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7EB5-A4F7-4544-9D1C-BFE84F3B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6EDD-5430-4AD5-984A-0C9262DC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1BC8-108C-4D4A-B3E0-31335A15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B1F1F-D185-452F-A6B7-02430AC9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F2EC-E99C-48F3-8470-A8D0D1A6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12BA-4F8B-4A80-9A0E-A306FF3F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1C3-5090-4F53-866D-E8874D70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FCE6-B41C-4D4E-8E21-79552BE5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9620-8269-4036-BCF1-9BDA3D7E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E45A-2D2D-4A4E-A00C-10B7CAD4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298F-A8CD-4E86-9DF6-C40E33A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08EA2-B6FA-4E0E-8B16-CB379B09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75E7D-7073-481E-803B-85755B02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FADF-3712-470A-9327-00119378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781A-FF8E-4DFA-861B-A1DBC6F8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7C112-6BA5-4673-A867-72C1DA5E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7E7E6-19DF-4B52-839F-FC1902C9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53E-613C-48CC-AAB5-AA579C4F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09564-8A6B-48B0-9DD3-50B9B175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25C08-C169-437B-B14B-5AFBE2F0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C9DB-16E7-4B05-9862-3D8522CB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5221C-6D81-438A-9143-91894E64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D2D5-E940-4732-8123-BBE63F03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BCE4-693A-489F-BBFE-B15C109B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8F05-DEE6-4A86-9F05-162F56E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FFB60-1244-41AD-9A4F-A52703A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6757A-DC6E-4D65-9605-6BB158EB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A868B-775C-46E1-9B84-4560AD37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D24-1E77-46F2-9DBF-9B6866FA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EF34-17D3-4008-8E6D-7890A081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306AE-B80D-4F46-9F7D-98BAD86A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1453B-BF23-4254-AA88-1764D392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78E24-01F1-437B-B470-420901AC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FBAD0-E220-4452-9A68-DFBAD4D4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5268-5206-4766-B981-BFB93BFF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18FC4-D77F-47A4-92A3-738C8AC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C351-EB08-4B7F-8F44-12A2A19D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18863-15E1-4495-8F58-37793A5A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406E-B65F-4412-94B3-D6385E5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266-40C3-4454-89C6-AD389025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8C611-33DE-4273-B871-3295862F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1FC12-D4AA-437D-A7AE-4B4D1D04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B99DE-272A-447F-9714-08924512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602F2-0266-4496-BE78-5783CEC4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6F62-B10D-426F-B15A-F8957DB2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ACCAF-9515-4B9B-926F-AFF9CF57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BF0DE-2421-4286-9485-DF90B93B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CBB6-670F-4387-9275-CAD2451D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E0244-062C-40DE-A8A0-1277BF29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1E96-C46B-4AF1-B698-0F04B9B7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345-65BB-4AD7-BC05-476D01B7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C07FD-CB95-4F4E-897F-FF26878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5894C-B474-464E-962C-CF8F536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EDF16-842D-4DD5-813E-1D81B30F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DD1E0-5D68-4233-95EE-1FD7BA3F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92B51-2444-4BF4-A536-8A26DD21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DA822-B504-440A-BD82-51EF7F50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99267-4CA3-4DEE-8DDF-923E95B4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989E-56AF-4480-AC9F-D81D2737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D1D6A-AA43-4AB0-81A2-05E2267B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C9309-84AE-4B1A-BD50-8FC0EE2B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4BB-87BE-44FB-9639-0FEBCFF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BDE75-3FFD-4C64-84D0-AEA60834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27AC1-5B79-4DD3-85B2-87335A20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B37D1-ADF4-4101-A3E0-4B9A4815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FA931-E880-4DA8-9E30-43D5AB43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50D8C-9E68-4E80-90E9-C01262A1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1F79D-E526-492E-AA05-0DFDEF57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F6E6-6D0F-4062-8CA1-C672282D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60D3F-4CDE-4933-83A1-5F55F90E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6AFEE-59A1-4829-AC85-AC8006CD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4BA2F-6EE0-4B09-9B5B-A10176D8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E970-30A4-4AA6-9DB7-FA621414FE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A138-C884-4DF1-89CC-00139CAF4A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A0C7-B65E-42EB-B64A-174614EF5BE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FBC3-4D85-41EE-9F43-7D9D5A0239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375-D049-4C46-9CD3-ED5F5F0A82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5FEA-C41E-426A-9B48-DC525DD352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228-774F-4F48-A0DB-5F70B13A33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6CAD-DEE7-4F35-A6FA-7431F23454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68AF-FA4E-4D19-8671-38D10F99DC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1D5F-16EE-4472-BA57-CA08196D5D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9422-64C9-4DEA-9A6E-1B64BB0285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4EA6-EF55-427E-9B43-EF1132B490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1 Hviezdou, čo v tme svie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viezdou, čo v tme svie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c vie rozjasn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skrou, ktorá nie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mne túžbu ž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lebom, čo hlad tíš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si mi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cieľ nad všetko vyšš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môj a môj Pán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bol prázd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siaľ život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užoval ho már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a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 som iba plev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trom zmietan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dnes sa teším, že s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ím dieťaťo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zdrojom blah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o v tebe 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eď krok môj váh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smerníš ho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utrpení, v str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mi nádej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nad pozemské sla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ou jedinou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tebou teda pôjd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m sa tebou v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cieľu iste dôjd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abyrintu ci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, kde žiadna t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 neskal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tam ťa moja p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 pozdraví.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44:01Z</dcterms:modified>
  <cp:revision>21</cp:revision>
  <dc:subject/>
  <dc:title>Je veľký náš Pán, on slávy je Kráľ Nech do všetkých strán  spev vrúcnych znie chvál.</dc:title>
</cp:coreProperties>
</file>